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4A4-F31A-4EF6-BE83-1B2D252A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0EB-C436-42AD-9560-6736CBAA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BBF-2772-4FB1-AF42-C4303769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153C-EC1F-456D-9071-27858F8F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6A2-32A2-4D58-9940-C87AAD44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8919-2D32-4B10-AE99-BEB6D8D1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3B7-D8F7-46D1-A8C7-269D9FAA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08E-ECD4-4BE0-9DCF-F351AE6E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D40F-2512-495D-BC5C-B261ED80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05C-7B3A-485A-BF1F-82832385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658-9B59-440A-9D78-C66DB7C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9D5-7C7A-4326-BB97-1F3AAA9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2690-4370-4868-B594-9DCB26B87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81680" y="0"/>
            <a:ext cx="2362320" cy="48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سيحُ قام من بين الاموات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ووطىء الموت بالموت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"/>
            <a:ext cx="199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ووهب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الحيـــــاةَ للذيـــن فــي القبـــــو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8:49:58Z</dcterms:created>
  <dc:creator>SUZANNE.MD</dc:creator>
  <dc:description/>
  <dc:language>en-US</dc:language>
  <cp:lastModifiedBy>HANI SAFI</cp:lastModifiedBy>
  <dcterms:modified xsi:type="dcterms:W3CDTF">2003-04-16T13:50:42Z</dcterms:modified>
  <cp:revision>2</cp:revision>
  <dc:subject/>
  <dc:title>PowerPoint Presentation</dc:title>
</cp:coreProperties>
</file>